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4ADF7-6560-431C-A115-B077CD0FB3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8637F-D5F7-470B-98A2-6BC547F6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EB0565-CDEF-4C28-A1F6-D39881D2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1C8E40-E563-4B78-8D19-E25D11CEB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7FA890-C2A3-4409-B261-ACA5AA7B0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791B6B-2E09-4E28-BD2D-AE5120FE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B53251-A0DD-4C37-8115-D0A2E13B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7C650C-DC9F-49A6-874C-95394818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A0AF80-FC4E-4D30-A679-3C7594D9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86E387-78AC-402E-8338-0F99324F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0C4A19-53E2-452E-A4EB-EDCE72C160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79A2B-E2CB-4D47-83B8-AC4F45F6BF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86C71-28CE-4584-AA6D-64FB76FA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2947C-AC9A-45FC-817D-A90818C6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54A79-B2D3-46EB-96C7-A69E0ABA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CDE77-32BE-4471-9A2E-DEEB64B9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3B67B-791E-4E8B-8904-9C52311ED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F26C0-835F-4EFB-A0FE-805E50360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F8C51-689E-4117-97ED-FD0D6E56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EE42D-F18E-47EE-96CF-48DEA848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B6EC4-0080-4C14-B7DE-B62CE622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1919B-0A94-4668-A524-0BE5281A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17936-8703-4F14-AD97-0A27045C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8DE56-9884-40BF-9042-B764E519FA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8325F-1917-41C6-B07C-630CBB9F22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74DC6E-E6B7-470A-A334-B8E6BA9410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CBA4C3-2498-4FBD-98D5-A8DE4ED6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58CEFC-AE89-4446-B8A2-7EB79F68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A2C7E5-D62B-4B4C-AD1D-BBF6DA14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0AC3A4-46D4-46EC-AF75-EAF0FAE92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16D234-AD3B-4EA3-B2B1-6D0FC967D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3C6A5C-81C1-458C-85A9-B573743D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EE456C-7243-42D1-ABCA-75666C23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C9FD11-B5F8-436F-8A29-0B6EE637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41B98-AFA9-4A4D-8BDF-BCFA015E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D7A6E6-9595-4A3D-9371-9CD29721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20DCE7-68FE-4DBD-8951-1259A269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0F13BE-F912-4557-8539-C7B4264D1A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B8019F-B749-447E-967F-81EDB182ED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97F424-482E-402C-95DC-55AB18C4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5D4AF6-D6A8-4586-AEFB-7513B2EF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403629-3198-40D5-93E3-C13300FE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8B664D-2753-40F1-B9F6-98FBDDE81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830A29-4AC2-4935-A6E2-EB328177A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38F3E6-1A2D-4522-BA2D-5BF2AF89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EB4FCE-3048-4E77-B1EB-3CC1F392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286BF8-2830-44B2-82C3-0554E496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BD711A-18C5-45C6-8A3C-51F1E570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B3BDB6-A590-4E84-9627-44A40577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2598DC-82F2-4D43-A11A-8E09416E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FD886E-B3C1-4217-B6DB-66450C2FAE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ECD1E-B990-44C4-AD04-9C86E76569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BC0F8-7585-4E3E-A90D-79E50769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9C23E7-A110-4309-80C2-487F0039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7C1DE4-FA90-4507-867F-54683628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5EA2C2-D335-46BC-BD56-6E6E4C0AC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E5F68-12AF-4300-A077-30A9F5CF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8F3AF-8DCF-41C8-9FB2-B7BD3E223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426D9-17B9-4C58-B7D5-2E1FE4E8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5D030B-9FE5-42DA-BCE8-635393C3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3E345-DC75-4BC6-ADA3-02C7F059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722B4-E5F1-4E0D-A67B-4B3E975D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66D8E-5259-439C-B27D-50AEB194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E14B5-507B-4E4E-ABB8-762BC088E2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517EBF-A592-49FB-A2C8-EF05D44F6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C0E1EC-397B-4F11-ADA1-7EACFA07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CE1FD4-44F1-4568-9146-530C4B48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2C9C9-3620-4C5D-9440-2CA8DC97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B739FF-F654-4372-81A4-8F8D617F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C928F5-E0D6-4D08-B2EF-3DACED25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5EC7D1-10E9-4941-91B3-D68F95D0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FEE02B-E121-4097-8B41-393FE350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CDCCB8-11B0-4C7B-807F-CB8B69D1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FE2A6-7751-44A2-B985-0BFCA3AE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DDAB47-D667-4C9E-BD8D-918C10E0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21153F-867B-431E-A582-A0581EFEA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D7F747-D565-454D-8014-7FF63EBFF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46C1A-F69F-485E-A23D-E08D04B8A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60DC0-9F5B-44B8-BE28-6639F3D1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B8CE20-6BAE-4F1C-83AC-F90DC12F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23EA6-C3F8-460B-A624-C01614A6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4E8A57-69DA-4D53-A286-07588791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FDFBE-2A0C-4CDD-A35E-6154CE25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C437C-535D-4551-B589-AD3DB71D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85CBF-F2BC-4D5B-A946-8FDF0CD9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7425A-2E60-4C91-87FB-A813C9E9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2EAEF-EECA-431D-99C1-95F11D8F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74E3C-805F-47A2-9EDD-9EEBBA37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DC56A6-3625-45D2-8DF3-47D13E927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BF114-0A4A-40CD-8569-6D3CEB83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9ACDA-1F49-4DD8-949A-08A0214C7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5497BE-BE3F-44C5-B4D8-F63FFD1F1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C96109-623E-4E69-B848-3839F243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1EC42B-FAB7-4964-8E1C-155BF2D8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0A99A5-851C-4A5C-A42E-F34DE7D6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F8329C-A1CB-408F-97FC-F1584725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593C74-BBCC-4AC0-9752-4B6368EA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41F963-0792-4FC8-8A45-AAF688D7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AAACC8-4E1F-4F7D-84D4-58ADA598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194F54-CEB3-4133-98DB-20B028D0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94D32-7292-47D9-98BE-DF95B2C8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3E005-7764-4911-8DF6-3893C091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57BD13-C898-475C-AB1D-2448F7AF5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AAAE43-F50A-4007-845B-3F98FAD02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9A6FBE-2681-42A6-BF4F-6B9C8BC25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665141-30D8-4363-9D1D-2F17FAEA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AF93E0-28B8-4E3B-82F1-1EFC9B6E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C9F49B-AE29-4AFA-A31C-B8481022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807FB8-B1C7-448D-82E3-4A00861B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29DD10-78FC-4095-990F-AEDD4A60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79D12A-3999-4A07-8E01-09B42FD0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F232F-004B-4628-BB2D-5DD92FC8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832A9C-7295-4A72-B63D-EA88D85A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127A37-E855-4F36-A10B-B7DC9A96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92443F-865A-4B62-80FD-FACC3B28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8634CB-1345-4605-86EC-720A46E5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5B6B8F-6CFE-47A4-8091-E013E4E11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F9FF71-1E41-4948-A6EA-5055A24E8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388FB6-32D8-4C0E-BDB4-A1C320AD2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38A2C1-C285-4AEB-8989-A80A3EDE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1332B9-D98E-4B38-9719-CB0CA21C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256B20-58A8-4891-8F33-BBCE6324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012B4D-16DF-4014-A445-1DA6DD9D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EA6FD-5983-46C9-A6A3-3214889E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FC457F-5345-4324-AEC4-678EE9BB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5ABC4A-DBF2-46D6-B507-9607B29F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DEA673-0850-41F8-8FC3-491115E6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500C2A-4C78-4C1B-9AFE-94CEF516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7C44B0-ECF1-474D-8272-C509950D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D72527-E78B-4A06-82AF-9CFB61111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EA3139-2CF8-4249-BD23-FBA62CF42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325F9E-16B5-4D7B-A016-BC666DF18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50E0EF-1595-44E1-AD1E-5643A1F0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9EFFE4-33DC-461B-ADB7-7E90999C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1E95D1-AC2E-43CA-A78C-6056D33F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17D527-76C3-4124-BD2D-1904413D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E6EEFC-0B03-4E44-911A-2E0BBA69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FFE28C-666E-4BE8-932E-5736A573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3E515E-A419-4173-A9EA-A14FE9C5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7FE5B7-A95A-4CEB-AF39-37D0CE4C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934EAF-C05A-438D-8207-A3463D69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EB216A-6F86-47E9-8310-721ACE6D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D7DB92-146A-48DE-9977-92E2D65A3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2A1293-45A0-4FF4-BCE2-FF0FCC76B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51BF29-CB19-44F4-8D4B-890ECE3F0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D6FF4-A04B-497D-B0E4-9CEDA6FCD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EF829B-2FC5-42D4-8B7C-6AB9FBD5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BBC9F7-3D35-4B1C-AADC-2C85B082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E34F5D-180C-42EB-BD27-A377E183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8839AE-2698-4E7D-8B5B-CCA9C8DA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78139B-5C69-4BB7-91B5-503FB6D5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E1CBC2-D42A-4F1A-A1BA-7E6B817F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4E85E6-4EE4-4D14-971F-034DDDDF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B91C9E-B0B5-403C-9560-8B57D7D3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B6480A-3925-488F-B608-F8AFDEAC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0EB97E-6BFD-4F0C-A522-4EC22421F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12C61-7998-4DBD-9AC5-EE64D7B97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BE1B6E-DBF3-4A55-A9F1-B9F990CFD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2E86B3-E8BB-4014-A5F1-F1C689E19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7292EC-828F-4022-9C1C-5FB16FCF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413945-C4B7-48AF-8956-961DCB98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0F238F-DE1C-4D09-AB27-A0E73DEA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38B3DE-4D3C-4F79-AA80-E1296701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8EFDA1-4D63-40AA-B279-F533516B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0909B1-7A19-4915-AFFE-22848C26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003E35-FBC3-4F66-B70C-6C239343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F23F59-41BC-4779-ACE0-1CBE7484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C82102-6CD4-417D-8821-D0F85FDBC2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7AF93F-4A1F-41C5-94F9-7E10C9E5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53185C-85F2-4EA9-94E3-C29EBA562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3CBA3A-0675-4AC1-97DC-A434F629C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C66171-E23B-44DA-82E0-D3B953032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0E0BBA-401C-46CD-A68F-6071CD28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52D2F1-B413-444F-B731-0D52A05C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2A90A3-6F9E-456F-A052-6625E7F6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BE7768-FDE1-42B4-81BD-30BD9D4E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5C32D5-3CF2-4854-A44B-B3E63ECE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898439-0381-4CAE-A923-35DD99DC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EBBDAF-321C-4E39-9042-0F552CC8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132DF4-C603-431E-9DE3-4DD52B54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E5795E-77A5-409A-9D13-F0AD4D5D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08168C-1D52-4D4D-9ED3-1C24CF55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A22ADD-05E7-43A5-B3A2-3D04AFE9A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4C98A2-6920-43CE-B7BB-DD351998F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29FE02-79A0-432A-A4C4-4FE476370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4E6A3E-786F-4E0C-BB30-0540BBFD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E8A772-D10A-4052-A47E-A32F258F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388DA4-1680-4934-B366-B0AA65AE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2060DB-1F1D-488D-B331-D5726209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C1D539-538A-4701-9679-42DDB566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3AAB3C-4139-45F6-B32B-89A6E743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98AD62-8F9D-459C-8FFF-D4CA09C9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F55298-45FA-4D6D-A811-F3D4FC59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F68FD5-3A19-47AD-AF65-C3258660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67F6C6-E8AF-453C-B8E1-51598897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695FC1-C9AD-4C69-A575-4F0E9A54D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B52CDD-A107-4F37-BBA3-2AB7037B2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B9089A-02C0-4903-8673-CD52A0683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FC2902-8B84-4443-B415-DD0F4501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C41579-66CC-4399-99A2-094F1671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7BB0C8-3CD3-43C6-BADF-0A00A5E1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F19D43-7481-4C36-95E5-3E8AF985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C6D30E-62A9-47DC-9AB1-12CF005F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A97210-1DA7-4910-B6C2-B014C8BF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8D4EC4-E82B-448C-851A-076A7D62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D9FCDB-7FC8-43CE-BC7C-FE3DCF8B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F346F7-244C-4B19-829D-2464F563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CDC3A6-99C1-44F5-B9FC-25314DCE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53C416-B032-4E63-BFC9-9FEF35FDE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5145D3-3609-4444-BC56-2C921BDF7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9BB52E-C879-4E85-BF1F-CB7E6D6EB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4BE0F-F70D-474A-9E76-738E55B6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428A80-779B-4527-B914-ECEEC3940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15DC5F-D706-48B0-9620-31AEAE66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289B9E-7449-4CBB-9E5B-38C92B8C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7D50E4-5466-4656-B0A8-07984E73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BC7A84-2EF4-49FF-84A7-A7831D7D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53D979-EC17-4BDA-9457-C48EC748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11D50A-FACB-41C9-AB4E-F0E41E4A6C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CA86E-0D43-4DA6-932D-9F0785327C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DA2F5-9A7C-47EC-90F7-ED007081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A6FD4-71B7-4420-B3D0-552458CE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526B2-6E6A-4CE8-9B4A-F97145CC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7E735-3A14-4C9C-A650-9CBF20E2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426B3-A1AF-4AD6-B77C-0C1057157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414D8-1C92-486E-9C5A-C489E9713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15B84-33F2-4805-B668-8210F124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83EEB-7F1A-4267-955D-0A6FC80B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7219B-2A52-4AC9-87F8-5873EF62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07ABE-9850-4422-9015-E910EA0E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AD97D-A54A-4549-A43E-9433CB01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C5294-EE08-41B9-A653-2D1F38175A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866918-5474-416C-BE6D-342785DC0C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C8151-3F15-44F9-B121-6C9C0D887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60F975-0586-45FB-9471-EE2AF750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1D0EC6-BF21-415A-B98D-010688BA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6E4B22-FC52-405A-9406-D009D272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C7FD36-CFF9-4616-8B0F-9BC60B2D0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291BFD-22FD-437D-B8A0-A47B6D15B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1A3541-0735-4A88-999C-ADD9AB76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21A9A3-0610-4A0A-80C4-48D6E29B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4EA89B-9A51-4E82-97B8-A550151B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C96D03-809A-4F87-BF9D-906DE90B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CA0B46-5993-4D91-8726-41A0FAFA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C5AFE-DA1A-4E73-84B8-79E6AC6D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A50E51-9A3E-45D5-AF95-DD8EC05F7F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659714-14BD-46F3-AB27-FB64880532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95FE12-91B4-482B-956C-20163A57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23DD2A-CCCC-48E0-99A5-2C6CD553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86FF40-B015-4C92-9BCA-1F7B002D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9193C8-FB67-4702-8104-81C470703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4486C1-C754-4E55-BD2C-092D69A51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6CDF70-44EB-4F11-9E45-1E9EE370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A575AC-D9AB-406B-AB8A-273EADE1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FB937A-08E0-4A4E-97BC-FA09936B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4665D-15E0-4101-9863-F88A723F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959708-2E00-4BBE-A756-59791ACC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223B8D-7AA0-408E-B93A-DCF2070C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C377E1-9393-4AE0-A343-FB1A078E64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30A93-7401-4611-A70E-7375459F6D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03C99-2F77-4971-8AD8-9E34F6FC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A5B9C-36A2-4BE3-9237-59E463A0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17177-C926-4095-A819-7B7A0546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39AF6-69E5-4C10-B0B0-AC7B0BB4C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E8775-F48D-4D1B-9E40-1CC218634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8E87C-CBD6-4F44-97FC-5583B99D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6DF57-D49D-4BFA-9C1F-9F6344D6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71EEC-DC69-41D0-9150-1C527766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ACD28-B4ED-4A9C-9331-EEF5292C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0BFCA-4188-43DE-80E5-CF4D4B20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8DCD4-58B7-4085-80D9-74AEDC2B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F421C-821D-449A-8AE7-E7E6CF67E1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B39F59-7469-412D-977A-5228D2F640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437958-4C02-4DBF-AD14-E2A61486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BE2C37-1E3C-4F4E-B59E-0DED13F8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0A3FAD-A190-469A-A61D-93632F67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360C63-C50C-4249-9A34-86CC269BF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F7708-5B5D-4A34-B97A-3C192849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FAB842-ACC4-4186-938D-92D3DB82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C88446-042D-4823-A4FF-F67EAED4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061044-5594-4D5A-BFFF-1CA73BCD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846129-B07A-4277-A090-6D6BE60C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9B9322-081D-4301-9480-82792057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089352-0704-484F-B109-2E54D8ED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E42F75-EA13-4F71-B002-8D6E009D5F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66C8A7-D153-43C4-9B18-40ADB6525A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843960-CCF4-45DB-A636-8430ACCE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890DDF-A9A7-411F-85B8-EC322EE5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FC96-BF95-4C85-8383-58E48A14AC8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A5FB-7BA0-4752-8AE1-6793B46332A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1D64-1BC2-43DE-93D4-57A856800DE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BDE1-223C-48B4-A002-00EFBE6991B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2E51-E04F-4B59-812E-E759147161F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E89A-296A-4812-BA06-F434B46AE3D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B872-9192-4E25-A147-6DC6FB6A116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71C2-BE40-4C00-AB43-D711C6FE025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A56B-2889-4FF4-A654-F0800F505C2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DD0A-06BC-4AE1-8081-12BC650AD58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A917-9B78-4F4E-A4F2-F8173F39A51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DB9D-4B56-4636-A113-1633C86F428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C1DA-A4FA-4F6D-9A4B-216148F1E17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4CBF-0418-4639-BD38-99249EE1CAC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133F-EF64-42A3-ADED-B40AEABF7B8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0D59-396B-4425-9480-63C146C5762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6E1B-0D87-438C-B8FD-EA695026094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8DE9-044B-4106-AA04-ACB0BF02B48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9792-45AC-4B0F-99A8-A3CB6A9159F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FDEF-A9CB-418E-814B-1B2E913E052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1AF3-21F6-4010-B6DD-6527C1C6F2F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BE9F-AE04-47FA-AA98-DA41DB57477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6BAA-77C9-47F9-AD64-B588BFF297A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72EA-4E2C-444A-BFD0-20AEE51F8A5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5.png"/><Relationship Id="rId10" Type="http://schemas.openxmlformats.org/officeDocument/2006/relationships/image" Target="../media/image23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28.png"/><Relationship Id="rId8" Type="http://schemas.openxmlformats.org/officeDocument/2006/relationships/image" Target="../media/image27.png"/><Relationship Id="rId9" Type="http://schemas.openxmlformats.org/officeDocument/2006/relationships/image" Target="../media/image29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image" Target="../media/image10.png"/><Relationship Id="rId17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一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581200" y="2784600"/>
            <a:ext cx="558720" cy="4618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-436680" y="2727360"/>
            <a:ext cx="8444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29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左、右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4321080" cy="360"/>
            <a:chOff x="2284560" y="2448000"/>
            <a:chExt cx="432108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432108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432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738360" y="1816200"/>
            <a:ext cx="611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2 </a:t>
            </a:r>
            <a:r>
              <a:rPr b="1" lang="zh-CN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位 置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8" name="图片 4097" descr="p-03-1"/>
          <p:cNvPicPr/>
          <p:nvPr/>
        </p:nvPicPr>
        <p:blipFill>
          <a:blip r:embed="rId1"/>
          <a:stretch/>
        </p:blipFill>
        <p:spPr>
          <a:xfrm>
            <a:off x="1568520" y="1668600"/>
            <a:ext cx="5940360" cy="3985920"/>
          </a:xfrm>
          <a:prstGeom prst="rect">
            <a:avLst/>
          </a:prstGeom>
          <a:ln w="0">
            <a:noFill/>
          </a:ln>
        </p:spPr>
      </p:pic>
      <p:grpSp>
        <p:nvGrpSpPr>
          <p:cNvPr id="999" name="组合 4098"/>
          <p:cNvGrpSpPr/>
          <p:nvPr/>
        </p:nvGrpSpPr>
        <p:grpSpPr>
          <a:xfrm>
            <a:off x="6702480" y="2254320"/>
            <a:ext cx="1871640" cy="732960"/>
            <a:chOff x="6702480" y="2254320"/>
            <a:chExt cx="1871640" cy="732960"/>
          </a:xfrm>
        </p:grpSpPr>
        <p:pic>
          <p:nvPicPr>
            <p:cNvPr id="1000" name="图片 4099" descr="007"/>
            <p:cNvPicPr/>
            <p:nvPr/>
          </p:nvPicPr>
          <p:blipFill>
            <a:blip r:embed="rId2"/>
            <a:stretch/>
          </p:blipFill>
          <p:spPr>
            <a:xfrm>
              <a:off x="6702480" y="2308320"/>
              <a:ext cx="1871640" cy="67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1" name="矩形 4100"/>
            <p:cNvSpPr/>
            <p:nvPr/>
          </p:nvSpPr>
          <p:spPr>
            <a:xfrm>
              <a:off x="7563600" y="2254320"/>
              <a:ext cx="51300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新宋体"/>
                </a:rPr>
                <a:t>这是右手。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2" name="组合 4101"/>
          <p:cNvGrpSpPr/>
          <p:nvPr/>
        </p:nvGrpSpPr>
        <p:grpSpPr>
          <a:xfrm>
            <a:off x="4214880" y="3176640"/>
            <a:ext cx="2836800" cy="833040"/>
            <a:chOff x="4214880" y="3176640"/>
            <a:chExt cx="2836800" cy="833040"/>
          </a:xfrm>
        </p:grpSpPr>
        <p:pic>
          <p:nvPicPr>
            <p:cNvPr id="1003" name="图片 4102" descr="007"/>
            <p:cNvPicPr/>
            <p:nvPr/>
          </p:nvPicPr>
          <p:blipFill>
            <a:blip r:embed="rId3"/>
            <a:stretch/>
          </p:blipFill>
          <p:spPr>
            <a:xfrm>
              <a:off x="4214880" y="3206160"/>
              <a:ext cx="2665440" cy="80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4" name="矩形 4103"/>
            <p:cNvSpPr/>
            <p:nvPr/>
          </p:nvSpPr>
          <p:spPr>
            <a:xfrm>
              <a:off x="4287960" y="3176640"/>
              <a:ext cx="27637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另一只手是…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组合 2"/>
          <p:cNvGrpSpPr/>
          <p:nvPr/>
        </p:nvGrpSpPr>
        <p:grpSpPr>
          <a:xfrm>
            <a:off x="0" y="155520"/>
            <a:ext cx="3244680" cy="527040"/>
            <a:chOff x="0" y="155520"/>
            <a:chExt cx="3244680" cy="527040"/>
          </a:xfrm>
        </p:grpSpPr>
        <p:pic>
          <p:nvPicPr>
            <p:cNvPr id="1006" name="圆角矩形 5" descr=""/>
            <p:cNvPicPr/>
            <p:nvPr/>
          </p:nvPicPr>
          <p:blipFill>
            <a:blip r:embed="rId4"/>
            <a:stretch/>
          </p:blipFill>
          <p:spPr>
            <a:xfrm>
              <a:off x="150480" y="155520"/>
              <a:ext cx="309420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7" name="组合 4"/>
            <p:cNvGrpSpPr/>
            <p:nvPr/>
          </p:nvGrpSpPr>
          <p:grpSpPr>
            <a:xfrm>
              <a:off x="0" y="250560"/>
              <a:ext cx="429840" cy="274680"/>
              <a:chOff x="0" y="250560"/>
              <a:chExt cx="429840" cy="274680"/>
            </a:xfrm>
          </p:grpSpPr>
          <p:sp>
            <p:nvSpPr>
              <p:cNvPr id="1008" name="椭圆 11"/>
              <p:cNvSpPr/>
              <p:nvPr/>
            </p:nvSpPr>
            <p:spPr>
              <a:xfrm rot="16200000">
                <a:off x="243360" y="41544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9" name="椭圆 13" descr=""/>
              <p:cNvPicPr/>
              <p:nvPr/>
            </p:nvPicPr>
            <p:blipFill>
              <a:blip r:embed="rId5"/>
              <a:stretch/>
            </p:blipFill>
            <p:spPr>
              <a:xfrm>
                <a:off x="218160" y="3787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0" name="椭圆 29"/>
              <p:cNvSpPr/>
              <p:nvPr/>
            </p:nvSpPr>
            <p:spPr>
              <a:xfrm rot="16200000">
                <a:off x="243360" y="28836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1" name="椭圆 30" descr=""/>
              <p:cNvPicPr/>
              <p:nvPr/>
            </p:nvPicPr>
            <p:blipFill>
              <a:blip r:embed="rId6"/>
              <a:stretch/>
            </p:blipFill>
            <p:spPr>
              <a:xfrm>
                <a:off x="218160" y="2653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2" name="圆角矩形 31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39492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3" name="圆角矩形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36648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4" name="圆角矩形 33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27864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5" name="圆角矩形 34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25056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16" name="Text Box 6"/>
          <p:cNvSpPr/>
          <p:nvPr/>
        </p:nvSpPr>
        <p:spPr>
          <a:xfrm>
            <a:off x="861840" y="117360"/>
            <a:ext cx="4053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Arial"/>
                <a:ea typeface="宋体"/>
              </a:rPr>
              <a:t>探究新知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7" name="内容占位符 5121" descr="p-03-2"/>
          <p:cNvPicPr/>
          <p:nvPr/>
        </p:nvPicPr>
        <p:blipFill>
          <a:blip r:embed="rId1"/>
          <a:stretch/>
        </p:blipFill>
        <p:spPr>
          <a:xfrm>
            <a:off x="1873080" y="1270080"/>
            <a:ext cx="3892680" cy="4525920"/>
          </a:xfrm>
          <a:prstGeom prst="rect">
            <a:avLst/>
          </a:prstGeom>
          <a:ln w="0">
            <a:noFill/>
          </a:ln>
        </p:spPr>
      </p:pic>
      <p:pic>
        <p:nvPicPr>
          <p:cNvPr id="1018" name="内容占位符 5122" descr="小猫"/>
          <p:cNvPicPr/>
          <p:nvPr/>
        </p:nvPicPr>
        <p:blipFill>
          <a:blip r:embed="rId2"/>
          <a:stretch/>
        </p:blipFill>
        <p:spPr>
          <a:xfrm>
            <a:off x="7662960" y="1270080"/>
            <a:ext cx="1305000" cy="1895400"/>
          </a:xfrm>
          <a:prstGeom prst="rect">
            <a:avLst/>
          </a:prstGeom>
          <a:ln w="0">
            <a:noFill/>
          </a:ln>
        </p:spPr>
      </p:pic>
      <p:sp>
        <p:nvSpPr>
          <p:cNvPr id="1019" name="云形标注 5123"/>
          <p:cNvSpPr/>
          <p:nvPr/>
        </p:nvSpPr>
        <p:spPr>
          <a:xfrm>
            <a:off x="4518000" y="463680"/>
            <a:ext cx="2691000" cy="1234800"/>
          </a:xfrm>
          <a:prstGeom prst="cloudCallout">
            <a:avLst>
              <a:gd name="adj1" fmla="val 61472"/>
              <a:gd name="adj2" fmla="val 58597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889160" y="901800"/>
            <a:ext cx="19731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0000"/>
                </a:solidFill>
                <a:latin typeface="Arial"/>
                <a:ea typeface="楷体_GB2312"/>
              </a:rPr>
              <a:t>看看你的两只手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矩形 5125"/>
          <p:cNvSpPr/>
          <p:nvPr/>
        </p:nvSpPr>
        <p:spPr>
          <a:xfrm>
            <a:off x="3769560" y="55371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左      右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2" name="组合 2"/>
          <p:cNvGrpSpPr/>
          <p:nvPr/>
        </p:nvGrpSpPr>
        <p:grpSpPr>
          <a:xfrm>
            <a:off x="0" y="155520"/>
            <a:ext cx="3244680" cy="527040"/>
            <a:chOff x="0" y="155520"/>
            <a:chExt cx="3244680" cy="527040"/>
          </a:xfrm>
        </p:grpSpPr>
        <p:pic>
          <p:nvPicPr>
            <p:cNvPr id="1023" name="圆角矩形 5" descr=""/>
            <p:cNvPicPr/>
            <p:nvPr/>
          </p:nvPicPr>
          <p:blipFill>
            <a:blip r:embed="rId3"/>
            <a:stretch/>
          </p:blipFill>
          <p:spPr>
            <a:xfrm>
              <a:off x="150480" y="155520"/>
              <a:ext cx="309420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4" name="组合 4"/>
            <p:cNvGrpSpPr/>
            <p:nvPr/>
          </p:nvGrpSpPr>
          <p:grpSpPr>
            <a:xfrm>
              <a:off x="0" y="250560"/>
              <a:ext cx="429840" cy="274680"/>
              <a:chOff x="0" y="250560"/>
              <a:chExt cx="429840" cy="274680"/>
            </a:xfrm>
          </p:grpSpPr>
          <p:sp>
            <p:nvSpPr>
              <p:cNvPr id="1025" name="椭圆 11"/>
              <p:cNvSpPr/>
              <p:nvPr/>
            </p:nvSpPr>
            <p:spPr>
              <a:xfrm rot="16200000">
                <a:off x="243360" y="41544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6" name="椭圆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218160" y="3787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7" name="椭圆 29"/>
              <p:cNvSpPr/>
              <p:nvPr/>
            </p:nvSpPr>
            <p:spPr>
              <a:xfrm rot="16200000">
                <a:off x="243360" y="28836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8" name="椭圆 30" descr=""/>
              <p:cNvPicPr/>
              <p:nvPr/>
            </p:nvPicPr>
            <p:blipFill>
              <a:blip r:embed="rId5"/>
              <a:stretch/>
            </p:blipFill>
            <p:spPr>
              <a:xfrm>
                <a:off x="218160" y="2653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9" name="圆角矩形 3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9492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0" name="圆角矩形 32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36648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1" name="圆角矩形 33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27864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2" name="圆角矩形 34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25056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6145" descr="p-03-3"/>
          <p:cNvPicPr/>
          <p:nvPr/>
        </p:nvPicPr>
        <p:blipFill>
          <a:blip r:embed="rId1"/>
          <a:srcRect l="0" t="0" r="0" b="1679"/>
          <a:stretch/>
        </p:blipFill>
        <p:spPr>
          <a:xfrm>
            <a:off x="984240" y="1703520"/>
            <a:ext cx="7356600" cy="3438360"/>
          </a:xfrm>
          <a:prstGeom prst="rect">
            <a:avLst/>
          </a:prstGeom>
          <a:ln w="0">
            <a:noFill/>
          </a:ln>
        </p:spPr>
      </p:pic>
      <p:pic>
        <p:nvPicPr>
          <p:cNvPr id="1034" name="图片 6146" descr="024"/>
          <p:cNvPicPr/>
          <p:nvPr/>
        </p:nvPicPr>
        <p:blipFill>
          <a:blip r:embed="rId2"/>
          <a:stretch/>
        </p:blipFill>
        <p:spPr>
          <a:xfrm>
            <a:off x="382680" y="1703520"/>
            <a:ext cx="2173320" cy="1218960"/>
          </a:xfrm>
          <a:prstGeom prst="rect">
            <a:avLst/>
          </a:prstGeom>
          <a:ln w="0">
            <a:noFill/>
          </a:ln>
        </p:spPr>
      </p:pic>
      <p:sp>
        <p:nvSpPr>
          <p:cNvPr id="1035" name="矩形 6147"/>
          <p:cNvSpPr/>
          <p:nvPr/>
        </p:nvSpPr>
        <p:spPr>
          <a:xfrm>
            <a:off x="679320" y="1776240"/>
            <a:ext cx="19875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两只手可以做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6" name="图片 6148" descr="024"/>
          <p:cNvPicPr/>
          <p:nvPr/>
        </p:nvPicPr>
        <p:blipFill>
          <a:blip r:embed="rId3"/>
          <a:stretch/>
        </p:blipFill>
        <p:spPr>
          <a:xfrm>
            <a:off x="2327400" y="2495520"/>
            <a:ext cx="2173320" cy="1219320"/>
          </a:xfrm>
          <a:prstGeom prst="rect">
            <a:avLst/>
          </a:prstGeom>
          <a:ln w="0">
            <a:noFill/>
          </a:ln>
        </p:spPr>
      </p:pic>
      <p:sp>
        <p:nvSpPr>
          <p:cNvPr id="1037" name="矩形 6149"/>
          <p:cNvSpPr/>
          <p:nvPr/>
        </p:nvSpPr>
        <p:spPr>
          <a:xfrm>
            <a:off x="2585880" y="2552760"/>
            <a:ext cx="22161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右手写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手压本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8" name="图片 6150" descr="024"/>
          <p:cNvPicPr/>
          <p:nvPr/>
        </p:nvPicPr>
        <p:blipFill>
          <a:blip r:embed="rId4"/>
          <a:stretch/>
        </p:blipFill>
        <p:spPr>
          <a:xfrm>
            <a:off x="6605640" y="2635200"/>
            <a:ext cx="1854000" cy="1219320"/>
          </a:xfrm>
          <a:prstGeom prst="rect">
            <a:avLst/>
          </a:prstGeom>
          <a:ln w="0">
            <a:noFill/>
          </a:ln>
        </p:spPr>
      </p:pic>
      <p:sp>
        <p:nvSpPr>
          <p:cNvPr id="1039" name="矩形 6151"/>
          <p:cNvSpPr/>
          <p:nvPr/>
        </p:nvSpPr>
        <p:spPr>
          <a:xfrm>
            <a:off x="6789600" y="2708280"/>
            <a:ext cx="19875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我举手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言用右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0" name="组合 2"/>
          <p:cNvGrpSpPr/>
          <p:nvPr/>
        </p:nvGrpSpPr>
        <p:grpSpPr>
          <a:xfrm>
            <a:off x="0" y="155520"/>
            <a:ext cx="3244680" cy="527040"/>
            <a:chOff x="0" y="155520"/>
            <a:chExt cx="3244680" cy="527040"/>
          </a:xfrm>
        </p:grpSpPr>
        <p:pic>
          <p:nvPicPr>
            <p:cNvPr id="1041" name="圆角矩形 5" descr=""/>
            <p:cNvPicPr/>
            <p:nvPr/>
          </p:nvPicPr>
          <p:blipFill>
            <a:blip r:embed="rId5"/>
            <a:stretch/>
          </p:blipFill>
          <p:spPr>
            <a:xfrm>
              <a:off x="150480" y="155520"/>
              <a:ext cx="309420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2" name="组合 4"/>
            <p:cNvGrpSpPr/>
            <p:nvPr/>
          </p:nvGrpSpPr>
          <p:grpSpPr>
            <a:xfrm>
              <a:off x="0" y="250560"/>
              <a:ext cx="429840" cy="274680"/>
              <a:chOff x="0" y="250560"/>
              <a:chExt cx="429840" cy="274680"/>
            </a:xfrm>
          </p:grpSpPr>
          <p:sp>
            <p:nvSpPr>
              <p:cNvPr id="1043" name="椭圆 11"/>
              <p:cNvSpPr/>
              <p:nvPr/>
            </p:nvSpPr>
            <p:spPr>
              <a:xfrm rot="16200000">
                <a:off x="243360" y="41544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4" name="椭圆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218160" y="3787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5" name="椭圆 29"/>
              <p:cNvSpPr/>
              <p:nvPr/>
            </p:nvSpPr>
            <p:spPr>
              <a:xfrm rot="16200000">
                <a:off x="243360" y="28836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6" name="椭圆 30" descr=""/>
              <p:cNvPicPr/>
              <p:nvPr/>
            </p:nvPicPr>
            <p:blipFill>
              <a:blip r:embed="rId7"/>
              <a:stretch/>
            </p:blipFill>
            <p:spPr>
              <a:xfrm>
                <a:off x="218160" y="2653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7" name="圆角矩形 31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39492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8" name="圆角矩形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36648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9" name="圆角矩形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27864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0" name="圆角矩形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25056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1" name="组合 2"/>
          <p:cNvGrpSpPr/>
          <p:nvPr/>
        </p:nvGrpSpPr>
        <p:grpSpPr>
          <a:xfrm>
            <a:off x="27000" y="181080"/>
            <a:ext cx="3246480" cy="527040"/>
            <a:chOff x="27000" y="181080"/>
            <a:chExt cx="3246480" cy="527040"/>
          </a:xfrm>
        </p:grpSpPr>
        <p:pic>
          <p:nvPicPr>
            <p:cNvPr id="1052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77480" y="181080"/>
              <a:ext cx="309600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3" name="组合 4"/>
            <p:cNvGrpSpPr/>
            <p:nvPr/>
          </p:nvGrpSpPr>
          <p:grpSpPr>
            <a:xfrm>
              <a:off x="27000" y="276120"/>
              <a:ext cx="430200" cy="274680"/>
              <a:chOff x="27000" y="276120"/>
              <a:chExt cx="430200" cy="274680"/>
            </a:xfrm>
          </p:grpSpPr>
          <p:sp>
            <p:nvSpPr>
              <p:cNvPr id="1054" name="椭圆 11"/>
              <p:cNvSpPr/>
              <p:nvPr/>
            </p:nvSpPr>
            <p:spPr>
              <a:xfrm rot="16200000">
                <a:off x="270360" y="44100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5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45520" y="4039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6" name="椭圆 29"/>
              <p:cNvSpPr/>
              <p:nvPr/>
            </p:nvSpPr>
            <p:spPr>
              <a:xfrm rot="16200000">
                <a:off x="270360" y="31392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7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45520" y="29088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8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27000" y="420480"/>
                <a:ext cx="35676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9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27000" y="392040"/>
                <a:ext cx="35676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0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27000" y="304200"/>
                <a:ext cx="35676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1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27000" y="276120"/>
                <a:ext cx="35676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62" name="矩形 7169"/>
          <p:cNvSpPr/>
          <p:nvPr/>
        </p:nvSpPr>
        <p:spPr>
          <a:xfrm>
            <a:off x="898560" y="1311120"/>
            <a:ext cx="712944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摸摸你的左耳，摸摸你的右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拍拍你的左肩，拍拍你的右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抬抬你的左腿，抬抬你的右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3" name="Picture 5" descr="老鹰捉小鸡小女孩完成"/>
          <p:cNvPicPr/>
          <p:nvPr/>
        </p:nvPicPr>
        <p:blipFill>
          <a:blip r:embed="rId8"/>
          <a:stretch/>
        </p:blipFill>
        <p:spPr>
          <a:xfrm>
            <a:off x="7481880" y="3887640"/>
            <a:ext cx="1093680" cy="2284560"/>
          </a:xfrm>
          <a:prstGeom prst="rect">
            <a:avLst/>
          </a:prstGeom>
          <a:ln w="0">
            <a:noFill/>
          </a:ln>
        </p:spPr>
      </p:pic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71040" y="344520"/>
            <a:ext cx="2382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楷体_GB2312"/>
              </a:rPr>
              <a:t>巩固练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圆角矩形标注 7173"/>
          <p:cNvSpPr/>
          <p:nvPr/>
        </p:nvSpPr>
        <p:spPr>
          <a:xfrm>
            <a:off x="4149720" y="3887640"/>
            <a:ext cx="2900520" cy="943200"/>
          </a:xfrm>
          <a:prstGeom prst="wedgeRoundRectCallout">
            <a:avLst>
              <a:gd name="adj1" fmla="val 61601"/>
              <a:gd name="adj2" fmla="val -1648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矩形 7174"/>
          <p:cNvSpPr/>
          <p:nvPr/>
        </p:nvSpPr>
        <p:spPr>
          <a:xfrm>
            <a:off x="4151160" y="3998880"/>
            <a:ext cx="290052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说一说你的前、后、左、右各是哪个同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组合 8193"/>
          <p:cNvGrpSpPr/>
          <p:nvPr/>
        </p:nvGrpSpPr>
        <p:grpSpPr>
          <a:xfrm>
            <a:off x="1517760" y="631080"/>
            <a:ext cx="5664240" cy="2072160"/>
            <a:chOff x="1517760" y="631080"/>
            <a:chExt cx="5664240" cy="2072160"/>
          </a:xfrm>
        </p:grpSpPr>
        <p:pic>
          <p:nvPicPr>
            <p:cNvPr id="1068" name="图片 8194" descr="8445591_165626484151_2[1]"/>
            <p:cNvPicPr/>
            <p:nvPr/>
          </p:nvPicPr>
          <p:blipFill>
            <a:blip r:embed="rId1"/>
            <a:stretch/>
          </p:blipFill>
          <p:spPr>
            <a:xfrm>
              <a:off x="5457960" y="920520"/>
              <a:ext cx="1724040" cy="141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9" name="图片 8195" descr="尺"/>
            <p:cNvPicPr/>
            <p:nvPr/>
          </p:nvPicPr>
          <p:blipFill>
            <a:blip r:embed="rId2"/>
            <a:stretch/>
          </p:blipFill>
          <p:spPr>
            <a:xfrm rot="17520000">
              <a:off x="3769560" y="1449360"/>
              <a:ext cx="2058840" cy="43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图片 8196" descr="橡皮"/>
            <p:cNvPicPr/>
            <p:nvPr/>
          </p:nvPicPr>
          <p:blipFill>
            <a:blip r:embed="rId3"/>
            <a:stretch/>
          </p:blipFill>
          <p:spPr>
            <a:xfrm>
              <a:off x="3057840" y="1383480"/>
              <a:ext cx="804600" cy="68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1" name="图片 8197" descr="铅笔"/>
            <p:cNvPicPr/>
            <p:nvPr/>
          </p:nvPicPr>
          <p:blipFill>
            <a:blip r:embed="rId4"/>
            <a:stretch/>
          </p:blipFill>
          <p:spPr>
            <a:xfrm>
              <a:off x="1517760" y="920520"/>
              <a:ext cx="1168920" cy="147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2" name="Text Box 13"/>
          <p:cNvSpPr/>
          <p:nvPr/>
        </p:nvSpPr>
        <p:spPr>
          <a:xfrm>
            <a:off x="1504800" y="2895480"/>
            <a:ext cx="61279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把        放在        的上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把        放在        的左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把        放在        的右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3" name="图片 8199" descr="8445591_165626484151_2[1]"/>
          <p:cNvPicPr/>
          <p:nvPr/>
        </p:nvPicPr>
        <p:blipFill>
          <a:blip r:embed="rId5"/>
          <a:stretch/>
        </p:blipFill>
        <p:spPr>
          <a:xfrm>
            <a:off x="4834080" y="2697120"/>
            <a:ext cx="1038240" cy="851040"/>
          </a:xfrm>
          <a:prstGeom prst="rect">
            <a:avLst/>
          </a:prstGeom>
          <a:ln w="0">
            <a:noFill/>
          </a:ln>
        </p:spPr>
      </p:pic>
      <p:pic>
        <p:nvPicPr>
          <p:cNvPr id="1074" name="图片 8200" descr="尺"/>
          <p:cNvPicPr/>
          <p:nvPr/>
        </p:nvPicPr>
        <p:blipFill>
          <a:blip r:embed="rId6"/>
          <a:stretch/>
        </p:blipFill>
        <p:spPr>
          <a:xfrm rot="19080000">
            <a:off x="4297320" y="4076280"/>
            <a:ext cx="2057400" cy="434880"/>
          </a:xfrm>
          <a:prstGeom prst="rect">
            <a:avLst/>
          </a:prstGeom>
          <a:ln w="0">
            <a:noFill/>
          </a:ln>
        </p:spPr>
      </p:pic>
      <p:pic>
        <p:nvPicPr>
          <p:cNvPr id="1075" name="图片 8201" descr="橡皮"/>
          <p:cNvPicPr/>
          <p:nvPr/>
        </p:nvPicPr>
        <p:blipFill>
          <a:blip r:embed="rId7"/>
          <a:stretch/>
        </p:blipFill>
        <p:spPr>
          <a:xfrm>
            <a:off x="2905200" y="4160880"/>
            <a:ext cx="615960" cy="522360"/>
          </a:xfrm>
          <a:prstGeom prst="rect">
            <a:avLst/>
          </a:prstGeom>
          <a:ln w="0">
            <a:noFill/>
          </a:ln>
        </p:spPr>
      </p:pic>
      <p:pic>
        <p:nvPicPr>
          <p:cNvPr id="1076" name="图片 8202" descr="铅笔"/>
          <p:cNvPicPr/>
          <p:nvPr/>
        </p:nvPicPr>
        <p:blipFill>
          <a:blip r:embed="rId8"/>
          <a:stretch/>
        </p:blipFill>
        <p:spPr>
          <a:xfrm>
            <a:off x="2765520" y="2511360"/>
            <a:ext cx="895320" cy="1130400"/>
          </a:xfrm>
          <a:prstGeom prst="rect">
            <a:avLst/>
          </a:prstGeom>
          <a:ln w="0">
            <a:noFill/>
          </a:ln>
        </p:spPr>
      </p:pic>
      <p:pic>
        <p:nvPicPr>
          <p:cNvPr id="1077" name="图片 8203" descr="橡皮"/>
          <p:cNvPicPr/>
          <p:nvPr/>
        </p:nvPicPr>
        <p:blipFill>
          <a:blip r:embed="rId9"/>
          <a:stretch/>
        </p:blipFill>
        <p:spPr>
          <a:xfrm>
            <a:off x="5073480" y="5411880"/>
            <a:ext cx="617760" cy="522360"/>
          </a:xfrm>
          <a:prstGeom prst="rect">
            <a:avLst/>
          </a:prstGeom>
          <a:ln w="0">
            <a:noFill/>
          </a:ln>
        </p:spPr>
      </p:pic>
      <p:pic>
        <p:nvPicPr>
          <p:cNvPr id="1078" name="图片 8204" descr="8445591_165626484151_2[1]"/>
          <p:cNvPicPr/>
          <p:nvPr/>
        </p:nvPicPr>
        <p:blipFill>
          <a:blip r:embed="rId10"/>
          <a:stretch/>
        </p:blipFill>
        <p:spPr>
          <a:xfrm>
            <a:off x="2736720" y="5327640"/>
            <a:ext cx="982800" cy="804960"/>
          </a:xfrm>
          <a:prstGeom prst="rect">
            <a:avLst/>
          </a:prstGeom>
          <a:ln w="0">
            <a:noFill/>
          </a:ln>
        </p:spPr>
      </p:pic>
      <p:sp>
        <p:nvSpPr>
          <p:cNvPr id="1079" name="文本框 8205"/>
          <p:cNvSpPr/>
          <p:nvPr/>
        </p:nvSpPr>
        <p:spPr>
          <a:xfrm>
            <a:off x="542880" y="115236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0" name="组合 2"/>
          <p:cNvGrpSpPr/>
          <p:nvPr/>
        </p:nvGrpSpPr>
        <p:grpSpPr>
          <a:xfrm>
            <a:off x="0" y="155520"/>
            <a:ext cx="3244680" cy="527040"/>
            <a:chOff x="0" y="155520"/>
            <a:chExt cx="3244680" cy="527040"/>
          </a:xfrm>
        </p:grpSpPr>
        <p:pic>
          <p:nvPicPr>
            <p:cNvPr id="1081" name="圆角矩形 5" descr=""/>
            <p:cNvPicPr/>
            <p:nvPr/>
          </p:nvPicPr>
          <p:blipFill>
            <a:blip r:embed="rId11"/>
            <a:stretch/>
          </p:blipFill>
          <p:spPr>
            <a:xfrm>
              <a:off x="150480" y="155520"/>
              <a:ext cx="309420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2" name="组合 4"/>
            <p:cNvGrpSpPr/>
            <p:nvPr/>
          </p:nvGrpSpPr>
          <p:grpSpPr>
            <a:xfrm>
              <a:off x="0" y="250560"/>
              <a:ext cx="429840" cy="274680"/>
              <a:chOff x="0" y="250560"/>
              <a:chExt cx="429840" cy="274680"/>
            </a:xfrm>
          </p:grpSpPr>
          <p:sp>
            <p:nvSpPr>
              <p:cNvPr id="1083" name="椭圆 11"/>
              <p:cNvSpPr/>
              <p:nvPr/>
            </p:nvSpPr>
            <p:spPr>
              <a:xfrm rot="16200000">
                <a:off x="243360" y="41544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4" name="椭圆 13" descr=""/>
              <p:cNvPicPr/>
              <p:nvPr/>
            </p:nvPicPr>
            <p:blipFill>
              <a:blip r:embed="rId12"/>
              <a:stretch/>
            </p:blipFill>
            <p:spPr>
              <a:xfrm>
                <a:off x="218160" y="3787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椭圆 29"/>
              <p:cNvSpPr/>
              <p:nvPr/>
            </p:nvSpPr>
            <p:spPr>
              <a:xfrm rot="16200000">
                <a:off x="243360" y="28836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6" name="椭圆 30" descr=""/>
              <p:cNvPicPr/>
              <p:nvPr/>
            </p:nvPicPr>
            <p:blipFill>
              <a:blip r:embed="rId13"/>
              <a:stretch/>
            </p:blipFill>
            <p:spPr>
              <a:xfrm>
                <a:off x="218160" y="2653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7" name="圆角矩形 31" descr=""/>
              <p:cNvPicPr/>
              <p:nvPr/>
            </p:nvPicPr>
            <p:blipFill>
              <a:blip r:embed="rId14"/>
              <a:stretch/>
            </p:blipFill>
            <p:spPr>
              <a:xfrm>
                <a:off x="0" y="39492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8" name="圆角矩形 32" descr=""/>
              <p:cNvPicPr/>
              <p:nvPr/>
            </p:nvPicPr>
            <p:blipFill>
              <a:blip r:embed="rId15"/>
              <a:stretch/>
            </p:blipFill>
            <p:spPr>
              <a:xfrm>
                <a:off x="0" y="36648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9" name="圆角矩形 33" descr=""/>
              <p:cNvPicPr/>
              <p:nvPr/>
            </p:nvPicPr>
            <p:blipFill>
              <a:blip r:embed="rId16"/>
              <a:stretch/>
            </p:blipFill>
            <p:spPr>
              <a:xfrm>
                <a:off x="0" y="27864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0" name="圆角矩形 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0" y="25056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725040" y="3208320"/>
            <a:ext cx="8675640" cy="21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）（           ）在最左边，（           ）在最右边。</a:t>
            </a:r>
            <a:br>
              <a:rPr sz="2100"/>
            </a:br>
            <a:br>
              <a:rPr sz="2100"/>
            </a:b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）              在           的（         ）边。</a:t>
            </a:r>
            <a:br>
              <a:rPr sz="2100"/>
            </a:br>
            <a:br>
              <a:rPr sz="2100"/>
            </a:b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）              在           的（         ）边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2" name="内容占位符 9218" descr="小狗"/>
          <p:cNvPicPr/>
          <p:nvPr/>
        </p:nvPicPr>
        <p:blipFill>
          <a:blip r:embed="rId1"/>
          <a:stretch/>
        </p:blipFill>
        <p:spPr>
          <a:xfrm>
            <a:off x="1157400" y="963720"/>
            <a:ext cx="2065320" cy="1493640"/>
          </a:xfrm>
          <a:prstGeom prst="rect">
            <a:avLst/>
          </a:prstGeom>
          <a:ln w="0">
            <a:noFill/>
          </a:ln>
        </p:spPr>
      </p:pic>
      <p:pic>
        <p:nvPicPr>
          <p:cNvPr id="1093" name="内容占位符 9219" descr="小马"/>
          <p:cNvPicPr/>
          <p:nvPr/>
        </p:nvPicPr>
        <p:blipFill>
          <a:blip r:embed="rId2"/>
          <a:stretch/>
        </p:blipFill>
        <p:spPr>
          <a:xfrm>
            <a:off x="3897360" y="865080"/>
            <a:ext cx="1758960" cy="1592280"/>
          </a:xfrm>
          <a:prstGeom prst="rect">
            <a:avLst/>
          </a:prstGeom>
          <a:ln w="0">
            <a:noFill/>
          </a:ln>
        </p:spPr>
      </p:pic>
      <p:pic>
        <p:nvPicPr>
          <p:cNvPr id="1094" name="内容占位符 9220" descr="小牛"/>
          <p:cNvPicPr/>
          <p:nvPr/>
        </p:nvPicPr>
        <p:blipFill>
          <a:blip r:embed="rId3"/>
          <a:stretch/>
        </p:blipFill>
        <p:spPr>
          <a:xfrm>
            <a:off x="6261120" y="1158840"/>
            <a:ext cx="1601640" cy="1298520"/>
          </a:xfrm>
          <a:prstGeom prst="rect">
            <a:avLst/>
          </a:prstGeom>
          <a:ln w="0">
            <a:noFill/>
          </a:ln>
        </p:spPr>
      </p:pic>
      <p:pic>
        <p:nvPicPr>
          <p:cNvPr id="1095" name="图片 9221" descr="小狗"/>
          <p:cNvPicPr/>
          <p:nvPr/>
        </p:nvPicPr>
        <p:blipFill>
          <a:blip r:embed="rId4"/>
          <a:stretch/>
        </p:blipFill>
        <p:spPr>
          <a:xfrm>
            <a:off x="1763640" y="3846600"/>
            <a:ext cx="1119240" cy="809640"/>
          </a:xfrm>
          <a:prstGeom prst="rect">
            <a:avLst/>
          </a:prstGeom>
          <a:ln w="0">
            <a:noFill/>
          </a:ln>
        </p:spPr>
      </p:pic>
      <p:pic>
        <p:nvPicPr>
          <p:cNvPr id="1096" name="图片 9222" descr="小马"/>
          <p:cNvPicPr/>
          <p:nvPr/>
        </p:nvPicPr>
        <p:blipFill>
          <a:blip r:embed="rId5"/>
          <a:stretch/>
        </p:blipFill>
        <p:spPr>
          <a:xfrm>
            <a:off x="3544920" y="3765600"/>
            <a:ext cx="998640" cy="904680"/>
          </a:xfrm>
          <a:prstGeom prst="rect">
            <a:avLst/>
          </a:prstGeom>
          <a:ln w="0">
            <a:noFill/>
          </a:ln>
        </p:spPr>
      </p:pic>
      <p:pic>
        <p:nvPicPr>
          <p:cNvPr id="1097" name="图片 9223" descr="小牛"/>
          <p:cNvPicPr/>
          <p:nvPr/>
        </p:nvPicPr>
        <p:blipFill>
          <a:blip r:embed="rId6"/>
          <a:stretch/>
        </p:blipFill>
        <p:spPr>
          <a:xfrm>
            <a:off x="1639800" y="4670280"/>
            <a:ext cx="1059120" cy="858960"/>
          </a:xfrm>
          <a:prstGeom prst="rect">
            <a:avLst/>
          </a:prstGeom>
          <a:ln w="0">
            <a:noFill/>
          </a:ln>
        </p:spPr>
      </p:pic>
      <p:pic>
        <p:nvPicPr>
          <p:cNvPr id="1098" name="图片 9224" descr="小马"/>
          <p:cNvPicPr/>
          <p:nvPr/>
        </p:nvPicPr>
        <p:blipFill>
          <a:blip r:embed="rId7"/>
          <a:stretch/>
        </p:blipFill>
        <p:spPr>
          <a:xfrm>
            <a:off x="3516480" y="4624560"/>
            <a:ext cx="998280" cy="904680"/>
          </a:xfrm>
          <a:prstGeom prst="rect">
            <a:avLst/>
          </a:prstGeom>
          <a:ln w="0">
            <a:noFill/>
          </a:ln>
        </p:spPr>
      </p:pic>
      <p:pic>
        <p:nvPicPr>
          <p:cNvPr id="1099" name="图片 9225" descr="小狗"/>
          <p:cNvPicPr/>
          <p:nvPr/>
        </p:nvPicPr>
        <p:blipFill>
          <a:blip r:embed="rId8"/>
          <a:stretch/>
        </p:blipFill>
        <p:spPr>
          <a:xfrm>
            <a:off x="1954080" y="2889360"/>
            <a:ext cx="1211400" cy="876240"/>
          </a:xfrm>
          <a:prstGeom prst="rect">
            <a:avLst/>
          </a:prstGeom>
          <a:ln w="0">
            <a:noFill/>
          </a:ln>
        </p:spPr>
      </p:pic>
      <p:pic>
        <p:nvPicPr>
          <p:cNvPr id="1100" name="图片 9226" descr="小牛"/>
          <p:cNvPicPr/>
          <p:nvPr/>
        </p:nvPicPr>
        <p:blipFill>
          <a:blip r:embed="rId9"/>
          <a:stretch/>
        </p:blipFill>
        <p:spPr>
          <a:xfrm>
            <a:off x="5616720" y="2979720"/>
            <a:ext cx="1069920" cy="866880"/>
          </a:xfrm>
          <a:prstGeom prst="rect">
            <a:avLst/>
          </a:prstGeom>
          <a:ln w="0">
            <a:noFill/>
          </a:ln>
        </p:spPr>
      </p:pic>
      <p:sp>
        <p:nvSpPr>
          <p:cNvPr id="1101" name="文本框 9227"/>
          <p:cNvSpPr/>
          <p:nvPr/>
        </p:nvSpPr>
        <p:spPr>
          <a:xfrm>
            <a:off x="5477400" y="49086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汉仪大黑简"/>
                <a:ea typeface="宋体"/>
              </a:rPr>
              <a:t>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文本框 9228"/>
          <p:cNvSpPr/>
          <p:nvPr/>
        </p:nvSpPr>
        <p:spPr>
          <a:xfrm>
            <a:off x="5563080" y="40514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汉仪大黑简"/>
                <a:ea typeface="宋体"/>
              </a:rPr>
              <a:t>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文本框 9229"/>
          <p:cNvSpPr/>
          <p:nvPr/>
        </p:nvSpPr>
        <p:spPr>
          <a:xfrm>
            <a:off x="542880" y="107316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4" name="组合 2"/>
          <p:cNvGrpSpPr/>
          <p:nvPr/>
        </p:nvGrpSpPr>
        <p:grpSpPr>
          <a:xfrm>
            <a:off x="0" y="155520"/>
            <a:ext cx="3244680" cy="527040"/>
            <a:chOff x="0" y="155520"/>
            <a:chExt cx="3244680" cy="527040"/>
          </a:xfrm>
        </p:grpSpPr>
        <p:pic>
          <p:nvPicPr>
            <p:cNvPr id="1105" name="圆角矩形 5" descr=""/>
            <p:cNvPicPr/>
            <p:nvPr/>
          </p:nvPicPr>
          <p:blipFill>
            <a:blip r:embed="rId10"/>
            <a:stretch/>
          </p:blipFill>
          <p:spPr>
            <a:xfrm>
              <a:off x="150480" y="155520"/>
              <a:ext cx="309420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6" name="组合 4"/>
            <p:cNvGrpSpPr/>
            <p:nvPr/>
          </p:nvGrpSpPr>
          <p:grpSpPr>
            <a:xfrm>
              <a:off x="0" y="250560"/>
              <a:ext cx="429840" cy="274680"/>
              <a:chOff x="0" y="250560"/>
              <a:chExt cx="429840" cy="274680"/>
            </a:xfrm>
          </p:grpSpPr>
          <p:sp>
            <p:nvSpPr>
              <p:cNvPr id="1107" name="椭圆 11"/>
              <p:cNvSpPr/>
              <p:nvPr/>
            </p:nvSpPr>
            <p:spPr>
              <a:xfrm rot="16200000">
                <a:off x="243360" y="41544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8" name="椭圆 13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8160" y="3787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9" name="椭圆 29"/>
              <p:cNvSpPr/>
              <p:nvPr/>
            </p:nvSpPr>
            <p:spPr>
              <a:xfrm rot="16200000">
                <a:off x="243360" y="28836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0" name="椭圆 30" descr=""/>
              <p:cNvPicPr/>
              <p:nvPr/>
            </p:nvPicPr>
            <p:blipFill>
              <a:blip r:embed="rId12"/>
              <a:stretch/>
            </p:blipFill>
            <p:spPr>
              <a:xfrm>
                <a:off x="218160" y="2653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1" name="圆角矩形 31" descr=""/>
              <p:cNvPicPr/>
              <p:nvPr/>
            </p:nvPicPr>
            <p:blipFill>
              <a:blip r:embed="rId13"/>
              <a:stretch/>
            </p:blipFill>
            <p:spPr>
              <a:xfrm>
                <a:off x="0" y="39492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2" name="圆角矩形 32" descr=""/>
              <p:cNvPicPr/>
              <p:nvPr/>
            </p:nvPicPr>
            <p:blipFill>
              <a:blip r:embed="rId14"/>
              <a:stretch/>
            </p:blipFill>
            <p:spPr>
              <a:xfrm>
                <a:off x="0" y="36648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3" name="圆角矩形 33" descr=""/>
              <p:cNvPicPr/>
              <p:nvPr/>
            </p:nvPicPr>
            <p:blipFill>
              <a:blip r:embed="rId15"/>
              <a:stretch/>
            </p:blipFill>
            <p:spPr>
              <a:xfrm>
                <a:off x="0" y="27864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4" name="圆角矩形 34" descr=""/>
              <p:cNvPicPr/>
              <p:nvPr/>
            </p:nvPicPr>
            <p:blipFill>
              <a:blip r:embed="rId16"/>
              <a:stretch/>
            </p:blipFill>
            <p:spPr>
              <a:xfrm>
                <a:off x="0" y="25056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5" name="组合 2"/>
          <p:cNvGrpSpPr/>
          <p:nvPr/>
        </p:nvGrpSpPr>
        <p:grpSpPr>
          <a:xfrm>
            <a:off x="0" y="155520"/>
            <a:ext cx="3244680" cy="527040"/>
            <a:chOff x="0" y="155520"/>
            <a:chExt cx="3244680" cy="527040"/>
          </a:xfrm>
        </p:grpSpPr>
        <p:pic>
          <p:nvPicPr>
            <p:cNvPr id="1116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55520"/>
              <a:ext cx="309420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7" name="组合 4"/>
            <p:cNvGrpSpPr/>
            <p:nvPr/>
          </p:nvGrpSpPr>
          <p:grpSpPr>
            <a:xfrm>
              <a:off x="0" y="250560"/>
              <a:ext cx="429840" cy="274680"/>
              <a:chOff x="0" y="250560"/>
              <a:chExt cx="429840" cy="274680"/>
            </a:xfrm>
          </p:grpSpPr>
          <p:sp>
            <p:nvSpPr>
              <p:cNvPr id="1118" name="椭圆 11"/>
              <p:cNvSpPr/>
              <p:nvPr/>
            </p:nvSpPr>
            <p:spPr>
              <a:xfrm rot="16200000">
                <a:off x="243360" y="41544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9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787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0" name="椭圆 29"/>
              <p:cNvSpPr/>
              <p:nvPr/>
            </p:nvSpPr>
            <p:spPr>
              <a:xfrm rot="16200000">
                <a:off x="243360" y="28836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1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653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2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9492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3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6648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4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7864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5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5056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26" name="圆角矩形标注 10241"/>
          <p:cNvSpPr/>
          <p:nvPr/>
        </p:nvSpPr>
        <p:spPr>
          <a:xfrm>
            <a:off x="3711600" y="1955880"/>
            <a:ext cx="3157560" cy="136512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752640" y="2174400"/>
            <a:ext cx="31590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说说你的前后左右分别是哪些同学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内容占位符 10246" descr="图片123"/>
          <p:cNvPicPr/>
          <p:nvPr/>
        </p:nvPicPr>
        <p:blipFill>
          <a:blip r:embed="rId8"/>
          <a:stretch/>
        </p:blipFill>
        <p:spPr>
          <a:xfrm>
            <a:off x="1924200" y="2174760"/>
            <a:ext cx="1828800" cy="3221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dc:language>en-US</dc:language>
  <cp:lastModifiedBy>万润仪器贸易公司</cp:lastModifiedBy>
  <dcterms:modified xsi:type="dcterms:W3CDTF">2020-08-18T09:35:35Z</dcterms:modified>
  <cp:revision>1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